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6E04-E8B5-4C31-A674-9E846A057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87F8-1B24-4EF6-B198-FC8EB8D69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E51C-E36B-49AD-93E2-C93DD2E59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C24A-6F47-465F-AE3D-BFAC39588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521D-94E9-44BA-9D46-D16E7E9D5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09BD-D77A-4AAF-BAFE-CB71F4F8E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B304-67E1-42CB-8673-540AA2DD7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824B-84B1-4947-A361-BDE1E33F5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1FCB-4A7F-4F16-BEFF-17FD350BD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9F93-9F45-41A1-89A1-83BE60496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F7A4-BB83-4DC9-96E2-197EF97FA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D9A2-D44D-4D03-A327-4B9B53559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B85A8-2AB9-4D64-BD38-5BA26EFFA1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9360">
            <a:solidFill>
              <a:srgbClr val="ffe701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 u="sng">
                <a:solidFill>
                  <a:srgbClr val="ffffff"/>
                </a:solidFill>
                <a:uFillTx/>
                <a:latin typeface="Arial"/>
              </a:rPr>
              <a:t>برنامج مهارات التدري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( مهارات تنفيذ التدريس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 u="sng">
                <a:solidFill>
                  <a:srgbClr val="ccffff"/>
                </a:solidFill>
                <a:uFillTx/>
                <a:latin typeface="Arial"/>
              </a:rPr>
              <a:t>الهدف العام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 u="sng">
                <a:solidFill>
                  <a:srgbClr val="ffffff"/>
                </a:solidFill>
                <a:uFillTx/>
                <a:latin typeface="Arial"/>
              </a:rPr>
              <a:t>أن يكون المتدرب (المعلم) قادرا على أداء المهارات الرئيسة لعملية تنفيذ التدريس بكفاءة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280" y="274680"/>
            <a:ext cx="7931160" cy="1138320"/>
          </a:xfrm>
          <a:prstGeom prst="rect">
            <a:avLst/>
          </a:prstGeom>
          <a:solidFill>
            <a:srgbClr val="ffff00"/>
          </a:solidFill>
          <a:ln w="7632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hi-IN" sz="4000" spc="-1" strike="noStrike">
                <a:solidFill>
                  <a:srgbClr val="0000ff"/>
                </a:solidFill>
                <a:latin typeface="Arial"/>
                <a:cs typeface="Thaghr 5 Hor."/>
              </a:rPr>
              <a:t>أساليب التهيئة لموضوع الدرس الجديد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0000"/>
          </a:solidFill>
          <a:ln w="7632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 fontScale="84000"/>
          </a:bodyPr>
          <a:p>
            <a:pPr marL="288000" indent="-288000" algn="r" rtl="1">
              <a:lnSpc>
                <a:spcPct val="14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Monotype Koufi"/>
              </a:rPr>
              <a:t>الأسلوب التاسع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Monotype Koufi"/>
              </a:rPr>
              <a:t> : </a:t>
            </a:r>
            <a:r>
              <a:rPr b="1" lang="hi-IN" sz="3200" spc="-1" strike="noStrike">
                <a:solidFill>
                  <a:srgbClr val="ff0000"/>
                </a:solidFill>
                <a:latin typeface="Arial"/>
                <a:cs typeface="Monotype Koufi"/>
              </a:rPr>
              <a:t>تقديم المنظم المتقدم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Monotype Kouf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r" rtl="1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Monotype Koufi"/>
              </a:rPr>
              <a:t>                                       ( مقدمة عامة )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Monotype Koufi"/>
              </a:rPr>
              <a:t> في صورة </a:t>
            </a:r>
            <a:r>
              <a:rPr b="0" lang="hi-IN" sz="3600" spc="-1" strike="noStrike">
                <a:solidFill>
                  <a:srgbClr val="ffffff"/>
                </a:solidFill>
                <a:latin typeface="Arial"/>
                <a:cs typeface="Thaghr 5 Hor."/>
              </a:rPr>
              <a:t>لفظية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lnSpc>
                <a:spcPct val="14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Monotype Koufi"/>
              </a:rPr>
              <a:t>الأسلوب العاشر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Monotype Koufi"/>
              </a:rPr>
              <a:t> : </a:t>
            </a:r>
            <a:r>
              <a:rPr b="1" lang="hi-IN" sz="3200" spc="-1" strike="noStrike">
                <a:solidFill>
                  <a:srgbClr val="ff0000"/>
                </a:solidFill>
                <a:latin typeface="Arial"/>
                <a:cs typeface="Monotype Koufi"/>
              </a:rPr>
              <a:t>تقديم المنظم المتقد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r" rtl="1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Monotype Koufi"/>
              </a:rPr>
              <a:t>                                  ( مقدمة عامة ) في صورة </a:t>
            </a: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Monotype Koufi"/>
              </a:rPr>
              <a:t>خريطة مفاهيم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Monotype Koufi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lnSpc>
                <a:spcPct val="14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Monotype Koufi"/>
              </a:rPr>
              <a:t>الأسلوب الحادي عشر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Monotype Koufi"/>
              </a:rPr>
              <a:t>: </a:t>
            </a:r>
            <a:r>
              <a:rPr b="1" lang="hi-IN" sz="4000" spc="-1" strike="noStrike">
                <a:solidFill>
                  <a:srgbClr val="ff0000"/>
                </a:solidFill>
                <a:latin typeface="Arial"/>
                <a:cs typeface="Monotype Koufi"/>
              </a:rPr>
              <a:t>الأحداث المتناقضة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Monotype Kouf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0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5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0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5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0" dur="1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Arial"/>
              </a:rPr>
              <a:t>(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4000" spc="-1" strike="noStrike">
                <a:solidFill>
                  <a:srgbClr val="ffcc00"/>
                </a:solidFill>
                <a:latin typeface="Arial"/>
              </a:rPr>
              <a:t> ) </a:t>
            </a:r>
            <a:r>
              <a:rPr b="1" lang="ar-SA" sz="4000" spc="-1" strike="noStrike">
                <a:solidFill>
                  <a:srgbClr val="660033"/>
                </a:solidFill>
                <a:latin typeface="Arial"/>
              </a:rPr>
              <a:t>مهارة الاستحواذ على انتباه الطلا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أهداف التدريبية ( السلوكية )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0000"/>
                </a:solidFill>
                <a:uFillTx/>
                <a:latin typeface="Arial"/>
              </a:rPr>
              <a:t>يتوقع من المتدرب بعد إتمام المناشط التدريبية  أن يكون قادرا على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8000"/>
                </a:solidFill>
                <a:latin typeface="Arial"/>
              </a:rPr>
              <a:t>تحديد المقصود بمفهوم جذب انتباه الطلاب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cc"/>
                </a:solidFill>
                <a:latin typeface="Arial"/>
              </a:rPr>
              <a:t>تحديد أسباب تشتت انتباه الطلاب عن الدر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استنتاج العلاقة بين هذه المهارة وتحقيق الأهداف التعليم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66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33"/>
                </a:solidFill>
                <a:latin typeface="Arial"/>
              </a:rPr>
              <a:t>تحديد المهارات السلوكية المكونة لمهارة جذب الانتباه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تأدية هذه المهارات باستخدام أسلوب تمثيل الأدوار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500"/>
                            </p:stCondLst>
                            <p:childTnLst>
                              <p:par>
                                <p:cTn id="43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500"/>
                            </p:stCondLst>
                            <p:childTnLst>
                              <p:par>
                                <p:cTn id="4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2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4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" dur="20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23640" y="259920"/>
            <a:ext cx="8569080" cy="6048360"/>
          </a:xfrm>
          <a:prstGeom prst="rect">
            <a:avLst/>
          </a:prstGeom>
          <a:noFill/>
          <a:ln w="76320">
            <a:solidFill>
              <a:srgbClr val="99ccff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( 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 ) مهارة الاستحواذ على انتباه الطلا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  <a:cs typeface="Monotype Koufi"/>
              </a:rPr>
              <a:t>جذب الانتبا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33cc"/>
                </a:solidFill>
                <a:latin typeface="Arial"/>
              </a:rPr>
              <a:t>عملية يقصد بها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hi-IN" sz="4000" spc="-1" strike="noStrike">
                <a:solidFill>
                  <a:srgbClr val="00ff00"/>
                </a:solidFill>
                <a:latin typeface="Arial"/>
              </a:rPr>
              <a:t>توجيه شعور الطالب أو إدراكه الذهني إلى موقف سلوكي جديد من خلال بعض المثيرات المتنوعة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4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9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4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9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(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 ) </a:t>
            </a:r>
            <a:r>
              <a:rPr b="1" lang="hi-IN" sz="4000" spc="-1" strike="noStrike">
                <a:solidFill>
                  <a:srgbClr val="660033"/>
                </a:solidFill>
                <a:latin typeface="Arial"/>
              </a:rPr>
              <a:t>مهارة الاستحواذ على انتباه الطلا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0000"/>
                </a:solidFill>
                <a:latin typeface="Arial"/>
              </a:rPr>
              <a:t>أنماط الطلاب المنصرفين عن الدر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-الطلاب غير المستمعين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- الطلاب المنتظرون عقليا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- الطلاب المتوقعون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hi-IN" sz="4000" spc="-1" strike="noStrike">
                <a:solidFill>
                  <a:srgbClr val="ffffff"/>
                </a:solidFill>
                <a:latin typeface="Arial"/>
              </a:rPr>
              <a:t>الطلاب غير المتابعين (الملاحقين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6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1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00ff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00"/>
                </a:solidFill>
                <a:latin typeface="Arial"/>
              </a:rPr>
              <a:t>( 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3200" spc="-1" strike="noStrike">
                <a:solidFill>
                  <a:srgbClr val="ffcc00"/>
                </a:solidFill>
                <a:latin typeface="Arial"/>
              </a:rPr>
              <a:t> )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مهارة الاستحواذ على انتباه الطلا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الأداءات السلوكية للمهارة</a:t>
            </a:r>
            <a:r>
              <a:rPr b="0" lang="ar-SA" sz="3200" spc="-1" strike="noStrike">
                <a:solidFill>
                  <a:srgbClr val="bbe0e3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- يهيئ البيئة الصفية الفيزيقية .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فرغ أدمغة الطلاب مما قد يشغلهم عن موضوع الدرس الجديد 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-يهيئ الطلاب  لموضوع الدرس الجديد 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-يعمل على أن يتعلم الطلاب المعلومات بشكل منظم ومتتابع 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- يسعى ان يفهم طلابه ما يتعلمونه 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– يقدم المادة العلمية بصورة مشوقة 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- يظهر حماسا أثناء التدريس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0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5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(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) </a:t>
            </a:r>
            <a:r>
              <a:rPr b="1" lang="hi-IN" sz="2000" spc="-1" strike="noStrike">
                <a:solidFill>
                  <a:srgbClr val="660033"/>
                </a:solidFill>
                <a:latin typeface="Arial"/>
              </a:rPr>
              <a:t>مهارة الاستحواذ على انتباه الطلا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0000"/>
                </a:solidFill>
                <a:latin typeface="Arial"/>
              </a:rPr>
              <a:t>أسباب تشتت الانتباه لدى الطلاب غير المستمعي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hi-IN" sz="2400" spc="-1" strike="noStrike">
                <a:solidFill>
                  <a:srgbClr val="ffff00"/>
                </a:solidFill>
                <a:latin typeface="Arial"/>
              </a:rPr>
              <a:t>قد ينصرف الطالب عن الدرس بسب المشكلات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: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(الشخصية – الاجتماعية- الصفية ...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 طبيعة النمو في مرحلة المراهقة من (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8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) سنة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 عدم وضوح صوت المعلم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الإجهاد الذهني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5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 مظاهر التعب البدني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 التكرار الممل من جانب المعلم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7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 عرض الدرس بطريقة مملة لا تناسب مستوى الطلاب واهتماماتهم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8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 عدم تنظيم البيئة الفيزيقية (المادية) : </a:t>
            </a:r>
            <a:r>
              <a:rPr b="1" lang="hi-IN" sz="2400" spc="-1" strike="noStrike">
                <a:solidFill>
                  <a:srgbClr val="ffff00"/>
                </a:solidFill>
                <a:latin typeface="Arial"/>
              </a:rPr>
              <a:t>أثاث – أجهزة – تهوية - إضاء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8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3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00ff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(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 ) </a:t>
            </a: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مهارة الاستحواذ على انتباه الطلا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Arial"/>
              </a:rPr>
              <a:t>الأداءات السلوكية للمهارة</a:t>
            </a: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ff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3200" spc="-1" strike="noStrike">
                <a:solidFill>
                  <a:srgbClr val="bbe0e3"/>
                </a:solidFill>
                <a:latin typeface="Arial"/>
              </a:rPr>
              <a:t>ينظر إلى الطلاب دوما أثناء التدريس (التواصل البصري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ff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Arial"/>
              </a:rPr>
              <a:t> يتحرك بشكل مناسب في غرفة الصف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ff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bbe0e3"/>
                </a:solidFill>
                <a:latin typeface="Arial"/>
              </a:rPr>
              <a:t>ينوع من الإشارات (الإيماءات) الجسدية وبشكل مناسب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ff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bbe0e3"/>
                </a:solidFill>
                <a:latin typeface="Arial"/>
              </a:rPr>
              <a:t>يغير من نبرات الصوت وشدته ونوعيته ويتحدث بسرعة مناسبة .</a:t>
            </a:r>
            <a:r>
              <a:rPr b="1" lang="en-US" sz="32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ff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bbe0e3"/>
                </a:solidFill>
                <a:latin typeface="Arial"/>
              </a:rPr>
              <a:t>يصمت برهة أثناء الحديث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ff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bbe0e3"/>
                </a:solidFill>
                <a:latin typeface="Arial"/>
              </a:rPr>
              <a:t>يستخدم أساليب التركيز بشكل مناسب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ff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bbe0e3"/>
                </a:solidFill>
                <a:latin typeface="Arial"/>
              </a:rPr>
              <a:t>يوظف الأسئلة بشكل جيد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ff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bbe0e3"/>
                </a:solidFill>
                <a:latin typeface="Arial"/>
              </a:rPr>
              <a:t>ينوع من الأنشطة الصفي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9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4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9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4" dur="5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9" dur="5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4" dur="5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9" dur="500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00ff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(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 ) </a:t>
            </a: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مهارة الاستحواذ على انتباه الطلا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Arial"/>
              </a:rPr>
              <a:t>الأداءات السلوكية للمهارة</a:t>
            </a: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30000"/>
              </a:lnSpc>
              <a:spcBef>
                <a:spcPts val="799"/>
              </a:spcBef>
              <a:buClr>
                <a:srgbClr val="00ff00"/>
              </a:buClr>
              <a:buFont typeface="Arial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3200" spc="-1" strike="noStrike">
                <a:solidFill>
                  <a:srgbClr val="bbe0e3"/>
                </a:solidFill>
                <a:latin typeface="Arial"/>
              </a:rPr>
              <a:t>ينوع من أنماط الاتصال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30000"/>
              </a:lnSpc>
              <a:spcBef>
                <a:spcPts val="799"/>
              </a:spcBef>
              <a:buClr>
                <a:srgbClr val="00ff00"/>
              </a:buClr>
              <a:buFont typeface="Arial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ينوع من أشكال استقبال المعلومات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30000"/>
              </a:lnSpc>
              <a:spcBef>
                <a:spcPts val="799"/>
              </a:spcBef>
              <a:buClr>
                <a:srgbClr val="00ff00"/>
              </a:buClr>
              <a:buFont typeface="Arial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ff00"/>
                </a:solidFill>
                <a:latin typeface="Arial"/>
              </a:rPr>
              <a:t>يأتي ببعض المعلومات الإضافية المناسبة.</a:t>
            </a:r>
            <a:r>
              <a:rPr b="1" lang="en-US" sz="32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30000"/>
              </a:lnSpc>
              <a:spcBef>
                <a:spcPts val="799"/>
              </a:spcBef>
              <a:buClr>
                <a:srgbClr val="00ff00"/>
              </a:buClr>
              <a:buFont typeface="Arial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bbe0e3"/>
                </a:solidFill>
                <a:latin typeface="Arial"/>
              </a:rPr>
              <a:t>يستخدم أسماء الطلاب أثناء التدريس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30000"/>
              </a:lnSpc>
              <a:spcBef>
                <a:spcPts val="799"/>
              </a:spcBef>
              <a:buClr>
                <a:srgbClr val="00ff00"/>
              </a:buClr>
              <a:buFont typeface="Arial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Arial"/>
              </a:rPr>
              <a:t>يستخدم الفكاهة في التدريس بشكل مناسب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6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1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6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1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6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1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6" dur="5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Arial"/>
              </a:rPr>
              <a:t>(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4000" spc="-1" strike="noStrike">
                <a:solidFill>
                  <a:srgbClr val="ffcc00"/>
                </a:solidFill>
                <a:latin typeface="Arial"/>
              </a:rPr>
              <a:t> )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مهارات طرح الأسئلة التنفيذية (الشفهية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أهداف التدريبية ( السلوكية )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0000"/>
                </a:solidFill>
                <a:uFillTx/>
                <a:latin typeface="Arial"/>
              </a:rPr>
              <a:t>يتوقع من المتدرب بعد إتمام المناشط التدريبية  أن يكون قادرا على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8000"/>
                </a:solidFill>
                <a:latin typeface="Arial"/>
              </a:rPr>
              <a:t>استنتاج أهمية الأسئلة الصفية الشفهي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cc"/>
                </a:solidFill>
                <a:latin typeface="Arial"/>
              </a:rPr>
              <a:t>تحديد أغراضهــــــا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ستنتاج العلاقة بين هذه المهارة وتحقيق الأهداف التعليمة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66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33"/>
                </a:solidFill>
                <a:latin typeface="Arial"/>
              </a:rPr>
              <a:t>تحديد المهارات السلوكية المكونة لها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تأدية هذه المهارات باستخدام أسلوب تمثيل الأدوار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3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500"/>
                            </p:stCondLst>
                            <p:childTnLst>
                              <p:par>
                                <p:cTn id="79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1500"/>
                            </p:stCondLst>
                            <p:childTnLst>
                              <p:par>
                                <p:cTn id="80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8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3" dur="1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0" dur="20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5" dur="20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323640" y="259920"/>
            <a:ext cx="8569080" cy="604836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Monotype Koufi"/>
              </a:rPr>
              <a:t>السؤال الصفي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ff"/>
                </a:solidFill>
                <a:latin typeface="Arial"/>
              </a:rPr>
              <a:t>جملة استفهامية أو طلبية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توجه إلى الطالب أو عدة طلاب بغرض استجلاء إجابة لفظية أو لفت انتباههم لأمر معين أثناء الدرس 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0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5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0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91520" cy="56498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00"/>
                </a:solidFill>
                <a:latin typeface="Arial"/>
                <a:cs typeface="PT Bold Heading"/>
              </a:rPr>
              <a:t>تعرف </a:t>
            </a:r>
            <a:r>
              <a:rPr b="0" lang="ar-SA" sz="3200" spc="-1" strike="noStrike" u="sng">
                <a:solidFill>
                  <a:srgbClr val="003300"/>
                </a:solidFill>
                <a:uFillTx/>
                <a:latin typeface="Arial"/>
                <a:cs typeface="PT Bold Heading"/>
              </a:rPr>
              <a:t>مهارات التدريس</a:t>
            </a:r>
            <a:r>
              <a:rPr b="0" lang="ar-SA" sz="3200" spc="-1" strike="noStrike">
                <a:solidFill>
                  <a:srgbClr val="003300"/>
                </a:solidFill>
                <a:latin typeface="Arial"/>
                <a:ea typeface="PT Bold Heading"/>
              </a:rPr>
              <a:t> بأنها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80"/>
                </a:solidFill>
                <a:latin typeface="Arial"/>
                <a:cs typeface="PT Bold Heading"/>
              </a:rPr>
              <a:t>القدرة على أداء نشاط معين ذي علاق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800000"/>
                </a:solidFill>
                <a:latin typeface="Arial"/>
                <a:ea typeface="PT Bold Heading"/>
              </a:rPr>
              <a:t>( بتخطيط التدريس , تنفيذه , تقويمه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80"/>
                </a:solidFill>
                <a:latin typeface="Arial"/>
                <a:cs typeface="PT Bold Heading"/>
              </a:rPr>
              <a:t>وهذا النشاط قابل للتحليل إلى مجموعة من السلوكيات (الأداءات):   </a:t>
            </a:r>
            <a:r>
              <a:rPr b="0" lang="ar-SA" sz="3200" spc="-1" strike="noStrike">
                <a:solidFill>
                  <a:srgbClr val="333300"/>
                </a:solidFill>
                <a:latin typeface="Arial"/>
                <a:ea typeface="PT Bold Heading"/>
              </a:rPr>
              <a:t>( المعرفية – المهارية – الوجدانية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80"/>
                </a:solidFill>
                <a:latin typeface="Arial"/>
                <a:ea typeface="PT Bold Heading"/>
              </a:rPr>
              <a:t> ومن ثم يمكن تقييمه بحسب معايير الدق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800000"/>
                </a:solidFill>
                <a:latin typeface="Arial"/>
                <a:cs typeface="PT Bold Heading"/>
              </a:rPr>
              <a:t>في القيام به وسرعة إنجازه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400"/>
                            </p:stCondLst>
                            <p:childTnLst>
                              <p:par>
                                <p:cTn id="59" nodeType="after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4000"/>
                            </p:stCondLst>
                            <p:childTnLst>
                              <p:par>
                                <p:cTn id="70" nodeType="after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700"/>
                            </p:stCondLst>
                            <p:childTnLst>
                              <p:par>
                                <p:cTn id="81" nodeType="after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8400"/>
                            </p:stCondLst>
                            <p:childTnLst>
                              <p:par>
                                <p:cTn id="92" nodeType="after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3" nodeType="after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PT Bold Heading"/>
              </a:rPr>
              <a:t>مهارة طرح الأسئل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Monotype Koufi"/>
              </a:rPr>
              <a:t>هي مجموعة من السلوكيات التدريسية التي يقوم بها المعلم بدقة وسرعة ( </a:t>
            </a:r>
            <a:r>
              <a:rPr b="1" lang="hi-IN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بكفاءة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Monotype Koufi"/>
              </a:rPr>
              <a:t> ) وبقدرة على التكيف مع معطيات الموقف التدريسي .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0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6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2000"/>
                            </p:stCondLst>
                            <p:childTnLst>
                              <p:par>
                                <p:cTn id="86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71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4000"/>
                            </p:stCondLst>
                            <p:childTnLst>
                              <p:par>
                                <p:cTn id="87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75" dur="2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6000"/>
                            </p:stCondLst>
                            <p:childTnLst>
                              <p:par>
                                <p:cTn id="87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79" dur="20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Arial"/>
              </a:rPr>
              <a:t>مهارات طرح الأسئلة الصفية الشفه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إعداد السؤال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توجيه السؤال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نتظار عقب توجيه السؤال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ختيار الطالب المجيب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ستماع إلى الإجابة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نتظار عقب سماع الإجابة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معالجة إجابات الطلاب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تشجيع الطلاب على توليد الأسئلة وتوجيهها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تعامل مع أسئلة الطلاب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2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2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2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2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2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2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20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20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2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2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20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20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20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20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2000" fill="hold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2000" fill="hold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هارات طرح الأسئلة التنفيذية (الشفهي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ccff"/>
                </a:solidFill>
                <a:latin typeface="Arial"/>
              </a:rPr>
              <a:t>السلوكيات المكونة لمهارة ( </a:t>
            </a:r>
            <a:r>
              <a:rPr b="1" lang="ar-SA" sz="3600" spc="-1" strike="noStrike">
                <a:solidFill>
                  <a:srgbClr val="99ccff"/>
                </a:solidFill>
                <a:latin typeface="Arial"/>
              </a:rPr>
              <a:t>توجيه السؤال</a:t>
            </a:r>
            <a:r>
              <a:rPr b="1" lang="ar-SA" sz="2800" spc="-1" strike="noStrike">
                <a:solidFill>
                  <a:srgbClr val="99ccff"/>
                </a:solidFill>
                <a:latin typeface="Arial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ar-SA" sz="2800" spc="-1" strike="noStrike">
                <a:solidFill>
                  <a:srgbClr val="ffcc00"/>
                </a:solidFill>
                <a:latin typeface="Arial"/>
              </a:rPr>
              <a:t>ينظم جلوس الطلاب في شكل حلقة أو في شكل حدوة الحصان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- يختار الوقت المناسب لتوجيه السؤا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99"/>
                </a:solidFill>
                <a:latin typeface="Arial"/>
              </a:rPr>
              <a:t>3</a:t>
            </a:r>
            <a:r>
              <a:rPr b="1" lang="ar-SA" sz="2800" spc="-1" strike="noStrike">
                <a:solidFill>
                  <a:srgbClr val="ffff99"/>
                </a:solidFill>
                <a:latin typeface="Arial"/>
              </a:rPr>
              <a:t>- يوجه السؤال بلغة بسيطة ومفهومة ومباشرة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ar-SA" sz="2800" spc="-1" strike="noStrike">
                <a:solidFill>
                  <a:srgbClr val="99ccff"/>
                </a:solidFill>
                <a:latin typeface="Arial"/>
              </a:rPr>
              <a:t>يلقي السؤال بحماس وود وتشجيع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- يلقي السؤال بالسرعة المناسب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ar-SA" sz="2800" spc="-1" strike="noStrike">
                <a:solidFill>
                  <a:srgbClr val="ffcc00"/>
                </a:solidFill>
                <a:latin typeface="Arial"/>
              </a:rPr>
              <a:t>يتوجه بالسؤال لجميع الطلاب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ar-SA" sz="2800" spc="-1" strike="noStrike">
                <a:solidFill>
                  <a:srgbClr val="99ccff"/>
                </a:solidFill>
                <a:latin typeface="Arial"/>
              </a:rPr>
              <a:t>ينوع من أساليب توزيع الأسئلة على الطلاب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- يشجع جميع الطلاب على المشاركة في الإجابا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ar-SA" sz="2800" spc="-1" strike="noStrike">
                <a:solidFill>
                  <a:srgbClr val="99ff66"/>
                </a:solidFill>
                <a:latin typeface="Arial"/>
              </a:rPr>
              <a:t>يوجه الطلاب إلى أهمية التأني قبل طلب الإجابة عن السؤال</a:t>
            </a:r>
            <a:r>
              <a:rPr b="0" lang="ar-SA" sz="2800" spc="-1" strike="noStrike">
                <a:solidFill>
                  <a:srgbClr val="99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8" dur="indefinite" restart="never" nodeType="tmRoot">
          <p:childTnLst>
            <p:seq>
              <p:cTn id="949" dur="indefinite" nodeType="mainSeq">
                <p:childTnLst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2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2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2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2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20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20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20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20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20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20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20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20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20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20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2000" fill="hold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2000" fill="hold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2000" fill="hold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2000" fill="hold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2000" fill="hold"/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2000" fill="hold"/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cc00"/>
                </a:solidFill>
                <a:latin typeface="Arial"/>
              </a:rPr>
              <a:t>مهارات طرح الأسئلة التنفيذية (الشفهية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السلوكيات المكونة لمهارة (</a:t>
            </a:r>
            <a:r>
              <a:rPr b="1" lang="hi-IN" sz="3200" spc="-1" strike="noStrike">
                <a:solidFill>
                  <a:srgbClr val="ffcc00"/>
                </a:solidFill>
                <a:latin typeface="Arial"/>
              </a:rPr>
              <a:t>الانتظار عقب طرح السؤا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ينتظر (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) ثانية بعد طرح السؤال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- يوجه نظره إلى كافة الطلاب ويتاب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أي إشارات جسدية تصدر عنهم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2" dur="indefinite" restart="never" nodeType="tmRoot">
          <p:childTnLst>
            <p:seq>
              <p:cTn id="1023" dur="indefinite" nodeType="mainSeq">
                <p:childTnLst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2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2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2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2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2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2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20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20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cc00"/>
                </a:solidFill>
                <a:latin typeface="Arial"/>
              </a:rPr>
              <a:t>مهارات طرح الأسئلة التنفيذية (الشفهية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السلوكيات المكونة لمهارة ( </a:t>
            </a:r>
            <a:r>
              <a:rPr b="1" lang="hi-IN" sz="3200" spc="-1" strike="noStrike">
                <a:solidFill>
                  <a:srgbClr val="ffcc00"/>
                </a:solidFill>
                <a:latin typeface="Arial"/>
              </a:rPr>
              <a:t>اختيار الطالب المجيب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hi-IN" sz="3200" spc="-1" strike="noStrike">
                <a:solidFill>
                  <a:srgbClr val="ffcc00"/>
                </a:solidFill>
                <a:latin typeface="Arial"/>
              </a:rPr>
              <a:t>يتريث قبل اختيار الطالب المجيب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13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hi-IN" sz="3200" spc="-1" strike="noStrike">
                <a:solidFill>
                  <a:srgbClr val="ffff99"/>
                </a:solidFill>
                <a:latin typeface="Arial"/>
              </a:rPr>
              <a:t>يعمل على مشاركة أكبر عدد ممكن من الطلاب في الإجابة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ينادي على الطالب المجيب باسم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0" dur="indefinite" restart="never" nodeType="tmRoot">
          <p:childTnLst>
            <p:seq>
              <p:cTn id="1061" dur="indefinite" nodeType="mainSeq">
                <p:childTnLst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2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2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2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2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2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2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2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2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6" dur="20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7" dur="20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cc00"/>
                </a:solidFill>
                <a:latin typeface="Arial"/>
              </a:rPr>
              <a:t>مهارات طرح الأسئلة التنفيذية (الشفهية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السلوكيات المكونة لمهارة (</a:t>
            </a:r>
            <a:r>
              <a:rPr b="1" lang="hi-IN" sz="3200" spc="-1" strike="noStrike">
                <a:solidFill>
                  <a:srgbClr val="ffe701"/>
                </a:solidFill>
                <a:latin typeface="Arial"/>
              </a:rPr>
              <a:t>الاستماع للإجابة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لا يسمح بالإجابات الجماعي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6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يعطي فرصة للطالب لإكمال إجابته ولا يقاط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لا يسمح بمقاطعة الطالب المجيب من قبل زملائه  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ينظر باهتمام للطالب المجيب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يسجل إجابة الطالب المجيب على السبور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8" dur="indefinite" restart="never" nodeType="tmRoot">
          <p:childTnLst>
            <p:seq>
              <p:cTn id="1099" dur="indefinite" nodeType="mainSeq">
                <p:childTnLst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0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1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6" dur="2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7" dur="2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2" dur="2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3" dur="2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8" dur="2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9" dur="2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4" dur="20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5" dur="20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0" dur="20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1" dur="20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6" dur="20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7" dur="20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0000"/>
                </a:solidFill>
                <a:latin typeface="Arial"/>
              </a:rPr>
              <a:t>مهارات طرح الأسئلة التنفيذية (</a:t>
            </a:r>
            <a:r>
              <a:rPr b="1" lang="hi-IN" sz="4000" spc="-1" strike="noStrike">
                <a:solidFill>
                  <a:srgbClr val="009999"/>
                </a:solidFill>
                <a:latin typeface="Arial"/>
              </a:rPr>
              <a:t>الشفهية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لسلوكيات المكونة لمهارة (</a:t>
            </a:r>
            <a:r>
              <a:rPr b="1" lang="hi-IN" sz="3200" spc="-1" strike="noStrike">
                <a:solidFill>
                  <a:srgbClr val="333399"/>
                </a:solidFill>
                <a:latin typeface="Arial"/>
              </a:rPr>
              <a:t>الانتظار قبل التعقيب على الإجاب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 ينتظر (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ث) قبل التعقيب على الإجابة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يسمح للطالب المجيب بمراجعة إجابته والإضافة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 يوجه الطلاب للتفكير في إجابة زميلهم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8" dur="indefinite" restart="never" nodeType="tmRoot">
          <p:childTnLst>
            <p:seq>
              <p:cTn id="1149" dur="indefinite" nodeType="mainSeq">
                <p:childTnLst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4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5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0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1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6" dur="2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7" dur="2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2" dur="2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3" dur="2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8" dur="2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9" dur="2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4" dur="2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5" dur="2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مهارات طرح الأسئلة التنفيذية (</a:t>
            </a:r>
            <a:r>
              <a:rPr b="1" lang="ar-SA" sz="3600" spc="-1" strike="noStrike">
                <a:solidFill>
                  <a:srgbClr val="ffcc00"/>
                </a:solidFill>
                <a:latin typeface="Arial"/>
              </a:rPr>
              <a:t>الشفهية</a:t>
            </a: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سلوكيات المكونة لمهارة ( </a:t>
            </a:r>
            <a:r>
              <a:rPr b="1" lang="ar-SA" sz="2800" spc="-1" strike="noStrike">
                <a:solidFill>
                  <a:srgbClr val="660033"/>
                </a:solidFill>
                <a:latin typeface="Arial"/>
              </a:rPr>
              <a:t>معالجة إجابات الطلاب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لا يتجاهل إجابة أيّ طالب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A" sz="2800" spc="-1" strike="noStrike">
                <a:solidFill>
                  <a:srgbClr val="660033"/>
                </a:solidFill>
                <a:latin typeface="Arial"/>
              </a:rPr>
              <a:t>لا يتسرع في إجابة السؤال الذي طرحه على الطلاب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- يعزز إجابات الطالب بالعبارات والإشارات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0000"/>
                </a:solidFill>
                <a:latin typeface="Arial"/>
              </a:rPr>
              <a:t>26</a:t>
            </a:r>
            <a:r>
              <a:rPr b="1" lang="ar-SA" sz="2800" spc="-1" strike="noStrike">
                <a:solidFill>
                  <a:srgbClr val="ff0000"/>
                </a:solidFill>
                <a:latin typeface="Arial"/>
              </a:rPr>
              <a:t>- يستخدم وسائل الحض أو الدفع ( إعادة الصياغة – التبسيط )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660033"/>
                </a:solidFill>
                <a:latin typeface="Arial"/>
              </a:rPr>
              <a:t>27</a:t>
            </a:r>
            <a:r>
              <a:rPr b="1" lang="ar-SA" sz="2800" spc="-1" strike="noStrike">
                <a:solidFill>
                  <a:srgbClr val="660033"/>
                </a:solidFill>
                <a:latin typeface="Arial"/>
              </a:rPr>
              <a:t>- لا يستخدم عبارات محبطة أو ساخرة تعليقا على إجابات الطلاب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6" dur="indefinite" restart="never" nodeType="tmRoot">
          <p:childTnLst>
            <p:seq>
              <p:cTn id="1187" dur="indefinite" nodeType="mainSeq">
                <p:childTnLst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2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8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9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4" dur="2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5" dur="2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0" dur="2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1" dur="2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6" dur="2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7" dur="2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2" dur="2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3" dur="2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8" dur="2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9" dur="2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4" dur="20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5" dur="20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مهارات طرح الأسئلة التنفيذية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 (</a:t>
            </a:r>
            <a:r>
              <a:rPr b="1" lang="ar-SA" sz="4000" spc="-1" strike="noStrike">
                <a:solidFill>
                  <a:srgbClr val="ffcc00"/>
                </a:solidFill>
                <a:latin typeface="Arial"/>
              </a:rPr>
              <a:t>الشفهية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9900"/>
                </a:solidFill>
                <a:latin typeface="Arial"/>
              </a:rPr>
              <a:t>السلوكيات المكونة لمهارة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تشجيع الطلاب على طرح الأسئلة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00"/>
                </a:solidFill>
                <a:latin typeface="Arial"/>
              </a:rPr>
              <a:t>28</a:t>
            </a:r>
            <a:r>
              <a:rPr b="1" lang="ar-SA" sz="3200" spc="-1" strike="noStrike">
                <a:solidFill>
                  <a:srgbClr val="ffcc00"/>
                </a:solidFill>
                <a:latin typeface="Arial"/>
              </a:rPr>
              <a:t>-  يبدي حماسا للطالب الذي يطرح سؤالا جيدا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33"/>
                </a:solidFill>
                <a:latin typeface="Arial"/>
              </a:rPr>
              <a:t>29</a:t>
            </a:r>
            <a:r>
              <a:rPr b="1" lang="ar-SA" sz="3200" spc="-1" strike="noStrike">
                <a:solidFill>
                  <a:srgbClr val="660033"/>
                </a:solidFill>
                <a:latin typeface="Arial"/>
              </a:rPr>
              <a:t>- يستخدم أساليب متنوعة لتشجيع الطلاب على طرح الأسئل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30</a:t>
            </a:r>
            <a:r>
              <a:rPr b="1" lang="ar-SA" sz="3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 يوضح للطلاب من حين لآخر كيفية صياغة الأسئلة بشكل علمي مفهو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6" dur="indefinite" restart="never" nodeType="tmRoot">
          <p:childTnLst>
            <p:seq>
              <p:cTn id="1237" dur="indefinite" nodeType="mainSeq">
                <p:childTnLst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2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3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8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9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4" dur="2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5" dur="2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0" dur="2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1" dur="2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6" dur="2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7" dur="2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2" dur="2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3" dur="2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8" dur="20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9" dur="20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660033"/>
                </a:solidFill>
                <a:latin typeface="Arial"/>
              </a:rPr>
              <a:t>مهارات طرح الأسئلة التنفيذية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 (</a:t>
            </a:r>
            <a:r>
              <a:rPr b="1" lang="ar-SA" sz="4000" spc="-1" strike="noStrike">
                <a:solidFill>
                  <a:srgbClr val="00cc00"/>
                </a:solidFill>
                <a:latin typeface="Arial"/>
              </a:rPr>
              <a:t>الشفهية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سلوكيات المكونة لمهارة ( 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التعامل مع أسئلة الطلاب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400" spc="-1" strike="noStrike">
                <a:solidFill>
                  <a:srgbClr val="00cc00"/>
                </a:solidFill>
                <a:latin typeface="Arial"/>
              </a:rPr>
              <a:t>31- </a:t>
            </a:r>
            <a:r>
              <a:rPr b="1" lang="ar-SA" sz="4400" spc="-1" strike="noStrike">
                <a:solidFill>
                  <a:srgbClr val="00cc00"/>
                </a:solidFill>
                <a:latin typeface="Arial"/>
              </a:rPr>
              <a:t>لا يهمل التعامل مع سؤال أي طالب</a:t>
            </a:r>
            <a:r>
              <a:rPr b="1" lang="ar-SA" sz="44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ar-SA" sz="4400" spc="-1" strike="noStrike">
                <a:solidFill>
                  <a:srgbClr val="00cc00"/>
                </a:solidFill>
                <a:latin typeface="Arial"/>
              </a:rPr>
              <a:t>.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>
              <a:lnSpc>
                <a:spcPct val="1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660033"/>
                </a:solidFill>
                <a:latin typeface="Arial"/>
              </a:rPr>
              <a:t>32- </a:t>
            </a:r>
            <a:r>
              <a:rPr b="1" lang="ar-SA" sz="4000" spc="-1" strike="noStrike">
                <a:solidFill>
                  <a:srgbClr val="660033"/>
                </a:solidFill>
                <a:latin typeface="Arial"/>
              </a:rPr>
              <a:t>ينوع من أنماط الاستجابة لسؤال الطالب بحسب متغيرات الموقف التعليمي</a:t>
            </a:r>
            <a:r>
              <a:rPr b="1" lang="ar-SA" sz="4000" spc="-1" strike="noStrike">
                <a:solidFill>
                  <a:srgbClr val="660033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0" dur="indefinite" restart="never" nodeType="tmRoot">
          <p:childTnLst>
            <p:seq>
              <p:cTn id="1281" dur="indefinite" nodeType="mainSeq">
                <p:childTnLst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6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2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3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8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9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4" dur="2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5" dur="2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0" dur="2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1" dur="2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91520" cy="56498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5727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 u="sng">
                <a:solidFill>
                  <a:srgbClr val="000080"/>
                </a:solidFill>
                <a:uFillTx/>
                <a:latin typeface="Arial"/>
                <a:cs typeface="PT Bold Heading"/>
              </a:rPr>
              <a:t>أنواع مهارات التدريس بشكل عام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r" rtl="1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 u="sng">
                <a:solidFill>
                  <a:srgbClr val="ff0000"/>
                </a:solidFill>
                <a:uFillTx/>
                <a:latin typeface="Arial"/>
                <a:cs typeface="PT Bold Heading"/>
              </a:rPr>
              <a:t>مهارات التخطي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 u="sng">
                <a:solidFill>
                  <a:srgbClr val="000000"/>
                </a:solidFill>
                <a:uFillTx/>
                <a:latin typeface="Arial"/>
                <a:cs typeface="Monotype Koufi"/>
              </a:rPr>
              <a:t>مهارات التنفي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r" rtl="1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 u="sng">
                <a:solidFill>
                  <a:srgbClr val="ff0000"/>
                </a:solidFill>
                <a:uFillTx/>
                <a:latin typeface="Arial"/>
                <a:cs typeface="PT Bold Heading"/>
              </a:rPr>
              <a:t>مهارات التقوي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ct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ct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 u="sng">
                <a:solidFill>
                  <a:srgbClr val="000080"/>
                </a:solidFill>
                <a:uFillTx/>
                <a:latin typeface="Arial"/>
                <a:cs typeface="PT Bold Heading"/>
              </a:rPr>
              <a:t>أنواع مهارات التنفيذ بشكل عام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ct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r" rtl="1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Simplified Arabic"/>
              </a:rPr>
              <a:t>مهارة التهيئة الحافز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r" rtl="1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Simplified Arabic"/>
              </a:rPr>
              <a:t>مهارة الاستحواذ على الانتباه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r" rtl="1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Simplified Arabic"/>
              </a:rPr>
              <a:t>مهارة طرح الأسئلة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r" rtl="1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Simplified Arabic"/>
              </a:rPr>
              <a:t>مهارة استخدام الوسائل والتقنيات التعليم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4500"/>
                            </p:stCondLst>
                            <p:childTnLst>
                              <p:par>
                                <p:cTn id="12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6700"/>
                            </p:stCondLst>
                            <p:childTnLst>
                              <p:par>
                                <p:cTn id="132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8900"/>
                            </p:stCondLst>
                            <p:childTnLst>
                              <p:par>
                                <p:cTn id="13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00"/>
                </a:solidFill>
                <a:latin typeface="Arial"/>
              </a:rPr>
              <a:t>ما رأيك في هؤلاء المعلمين 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PT Bold Heading"/>
              </a:rPr>
              <a:t>  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PT Bold Heading"/>
              </a:rPr>
              <a:t>1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PT Bold Heading"/>
              </a:rPr>
              <a:t>-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 </a:t>
            </a:r>
            <a:r>
              <a:rPr b="1" lang="ar-SA" sz="4400" spc="-1" strike="noStrike">
                <a:solidFill>
                  <a:srgbClr val="ffffff"/>
                </a:solidFill>
                <a:latin typeface="Arial"/>
                <a:cs typeface="Monotype Koufi"/>
              </a:rPr>
              <a:t>معلم </a:t>
            </a:r>
            <a:r>
              <a:rPr b="1" lang="ar-SA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الحفظ والتسميع</a:t>
            </a: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نموذج من أسئلته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كم عدد أشهر السنة 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ما ألوان الطيف 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متى فتح العرب الأندلس 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أين يتقاطع قطرا المستقيم 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ما علامة رفع الأسماء الخمسة 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2" dur="indefinite" restart="never" nodeType="tmRoot">
          <p:childTnLst>
            <p:seq>
              <p:cTn id="1313" dur="indefinite" nodeType="mainSeq">
                <p:childTnLst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4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5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0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1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6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7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2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3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8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9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4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5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0" dur="10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1" dur="10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6" dur="10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7" dur="10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33cc"/>
                </a:solidFill>
                <a:latin typeface="Arial"/>
              </a:rPr>
              <a:t>ما رأيك في هؤلاء المعلمين 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 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1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onotype Koufi"/>
              </a:rPr>
              <a:t>  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Monotype Koufi"/>
              </a:rPr>
              <a:t>معلم </a:t>
            </a:r>
            <a:r>
              <a:rPr b="1" lang="ar-SA" sz="4000" spc="-1" strike="noStrike">
                <a:solidFill>
                  <a:srgbClr val="660033"/>
                </a:solidFill>
                <a:latin typeface="Arial"/>
                <a:ea typeface="PT Bold Heading"/>
              </a:rPr>
              <a:t>: نعم / لا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نموذج من أسئلته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صلاة الركن الثاني من أركان الإسلام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. أليس كذلك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للأسماك خياشيم تتنفس بها .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أليس كذلك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أليست ( صار) من أخوات كان 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00"/>
                </a:solidFill>
                <a:latin typeface="Arial"/>
              </a:rPr>
              <a:t>أسئلته لا تنمي التفكير؛ لأنها توحي للطلاب بالإجابة 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8" dur="indefinite" restart="never" nodeType="tmRoot">
          <p:childTnLst>
            <p:seq>
              <p:cTn id="1369" dur="indefinite" nodeType="mainSeq">
                <p:childTnLst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0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1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6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7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2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3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8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9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0" fill="hold">
                      <p:stCondLst>
                        <p:cond delay="indefinite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4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5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fill="hold">
                      <p:stCondLst>
                        <p:cond delay="indefinite"/>
                      </p:stCondLst>
                      <p:childTnLst>
                        <p:par>
                          <p:cTn id="1407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0" dur="10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1" dur="10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2" fill="hold">
                      <p:stCondLst>
                        <p:cond delay="indefinite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6" dur="1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7" dur="1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00"/>
                </a:solidFill>
                <a:latin typeface="Arial"/>
              </a:rPr>
              <a:t>ما رأيك في هؤلاء المعلمين</a:t>
            </a:r>
            <a:r>
              <a:rPr b="1" lang="ar-SA" sz="4800" spc="-1" strike="noStrike">
                <a:solidFill>
                  <a:srgbClr val="0033cc"/>
                </a:solidFill>
                <a:latin typeface="Arial"/>
              </a:rPr>
              <a:t> 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 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1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onotype Koufi"/>
              </a:rPr>
              <a:t>  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Monotype Koufi"/>
              </a:rPr>
              <a:t>معلم </a:t>
            </a:r>
            <a:r>
              <a:rPr b="1" lang="ar-SA" sz="4000" spc="-1" strike="noStrike">
                <a:solidFill>
                  <a:srgbClr val="660033"/>
                </a:solidFill>
                <a:latin typeface="Arial"/>
                <a:ea typeface="PT Bold Heading"/>
              </a:rPr>
              <a:t>: الإجابة الجماعية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نموذج من أسئلته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ما عاصمة دولة اليابان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1" lang="ar-SA" sz="4000" spc="-1" strike="noStrike">
                <a:solidFill>
                  <a:srgbClr val="ffff00"/>
                </a:solidFill>
                <a:latin typeface="Arial"/>
              </a:rPr>
              <a:t>يا شباب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)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Arial"/>
              </a:rPr>
              <a:t>ما أول سورة نزلت على النبي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ff00"/>
                </a:solidFill>
                <a:latin typeface="Arial"/>
                <a:cs typeface="Simplified Arabic"/>
              </a:rPr>
              <a:t>صلى الله عليه وسلم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00"/>
                </a:solidFill>
                <a:latin typeface="Arial"/>
              </a:rPr>
              <a:t>يا أبنائي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00"/>
                </a:solidFill>
                <a:latin typeface="Arial"/>
                <a:cs typeface="PT Bold Heading"/>
              </a:rPr>
              <a:t>لأنها توحي للطلاب بالإجابة الجماعية</a:t>
            </a:r>
            <a:r>
              <a:rPr b="1" lang="ar-SA" sz="4800" spc="-1" strike="noStrike">
                <a:solidFill>
                  <a:srgbClr val="ffff00"/>
                </a:solidFill>
                <a:latin typeface="Arial"/>
              </a:rPr>
              <a:t> 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8" dur="indefinite" restart="never" nodeType="tmRoot">
          <p:childTnLst>
            <p:seq>
              <p:cTn id="1419" dur="indefinite" nodeType="mainSeq">
                <p:childTnLst>
                  <p:par>
                    <p:cTn id="1420" fill="hold">
                      <p:stCondLst>
                        <p:cond delay="indefinite"/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0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1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fill="hold">
                      <p:stCondLst>
                        <p:cond delay="indefinite"/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6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7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fill="hold">
                      <p:stCondLst>
                        <p:cond delay="indefinite"/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2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3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4" fill="hold">
                      <p:stCondLst>
                        <p:cond delay="indefinite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8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9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0" fill="hold">
                      <p:stCondLst>
                        <p:cond delay="indefinite"/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4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5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0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1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00"/>
                </a:solidFill>
                <a:latin typeface="Arial"/>
              </a:rPr>
              <a:t>ما رأيك في هؤلاء المعلمين</a:t>
            </a:r>
            <a:r>
              <a:rPr b="1" lang="ar-SA" sz="4800" spc="-1" strike="noStrike">
                <a:solidFill>
                  <a:srgbClr val="0033cc"/>
                </a:solidFill>
                <a:latin typeface="Arial"/>
              </a:rPr>
              <a:t> 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 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1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onotype Koufi"/>
              </a:rPr>
              <a:t> 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Monotype Koufi"/>
              </a:rPr>
              <a:t>المعلم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  <a:ea typeface="Monotype Koufi"/>
              </a:rPr>
              <a:t> </a:t>
            </a:r>
            <a:r>
              <a:rPr b="1" lang="ar-SA" sz="4000" spc="-1" strike="noStrike">
                <a:solidFill>
                  <a:srgbClr val="660033"/>
                </a:solidFill>
                <a:latin typeface="Arial"/>
                <a:ea typeface="PT Bold Heading"/>
              </a:rPr>
              <a:t> ( الهلامي )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نموذج من أسئلته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33"/>
                </a:solidFill>
                <a:latin typeface="Arial"/>
              </a:rPr>
              <a:t>من يحدثنا عن الطائرات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33"/>
                </a:solidFill>
                <a:latin typeface="Arial"/>
              </a:rPr>
              <a:t>قل لي يا أحمد شيئا عن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الصوم في رمضان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أخبروني عن جغرافية دولة البحرين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PT Bold Heading"/>
              </a:rPr>
              <a:t>إنها أسئلة غير محددة (فضفاضة) لا يتضح للطلاب الغرض منها </a:t>
            </a:r>
            <a:r>
              <a:rPr b="1" lang="ar-SA" sz="4800" spc="-1" strike="noStrike">
                <a:solidFill>
                  <a:srgbClr val="ff0000"/>
                </a:solidFill>
                <a:latin typeface="Arial"/>
              </a:rPr>
              <a:t> 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2" dur="indefinite" restart="never" nodeType="tmRoot">
          <p:childTnLst>
            <p:seq>
              <p:cTn id="1463" dur="indefinite" nodeType="mainSeq">
                <p:childTnLst>
                  <p:par>
                    <p:cTn id="1464" fill="hold">
                      <p:stCondLst>
                        <p:cond delay="indefinite"/>
                      </p:stCondLst>
                      <p:childTnLst>
                        <p:par>
                          <p:cTn id="1465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fill="hold">
                      <p:stCondLst>
                        <p:cond delay="indefinite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4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5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6" fill="hold">
                      <p:stCondLst>
                        <p:cond delay="indefinite"/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0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1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2" fill="hold">
                      <p:stCondLst>
                        <p:cond delay="indefinite"/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6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7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8" fill="hold">
                      <p:stCondLst>
                        <p:cond delay="indefinite"/>
                      </p:stCondLst>
                      <p:childTnLst>
                        <p:par>
                          <p:cTn id="1489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2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3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4" fill="hold">
                      <p:stCondLst>
                        <p:cond delay="indefinite"/>
                      </p:stCondLst>
                      <p:childTnLst>
                        <p:par>
                          <p:cTn id="1495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8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9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0" fill="hold">
                      <p:stCondLst>
                        <p:cond delay="indefinite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4" dur="10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5" dur="10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0" dur="10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1" dur="10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178920" y="215640"/>
            <a:ext cx="8820360" cy="638172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  <a:ea typeface="Simplified Arabic"/>
              </a:rPr>
              <a:t>( </a:t>
            </a:r>
            <a:r>
              <a:rPr b="1" lang="ar-SA" sz="3600" spc="-1" strike="noStrike">
                <a:solidFill>
                  <a:srgbClr val="ffff00"/>
                </a:solidFill>
                <a:latin typeface="Arial"/>
                <a:ea typeface="Simplified Arabic"/>
              </a:rPr>
              <a:t>1</a:t>
            </a:r>
            <a:r>
              <a:rPr b="1" lang="ar-SA" sz="3600" spc="-1" strike="noStrike">
                <a:solidFill>
                  <a:srgbClr val="ff0000"/>
                </a:solidFill>
                <a:latin typeface="Arial"/>
                <a:ea typeface="Simplified Arabic"/>
              </a:rPr>
              <a:t> )</a:t>
            </a:r>
            <a:r>
              <a:rPr b="1" lang="ar-SA" sz="3600" spc="-1" strike="noStrike" u="sng">
                <a:solidFill>
                  <a:srgbClr val="000000"/>
                </a:solidFill>
                <a:uFillTx/>
                <a:latin typeface="Arial"/>
                <a:ea typeface="Simplified Arabic"/>
              </a:rPr>
              <a:t> </a:t>
            </a:r>
            <a:r>
              <a:rPr b="1" lang="ar-SA" sz="4000" spc="-1" strike="noStrike" u="sng">
                <a:solidFill>
                  <a:srgbClr val="ffffff"/>
                </a:solidFill>
                <a:uFillTx/>
                <a:latin typeface="Arial"/>
                <a:cs typeface="Simplified Arabic"/>
              </a:rPr>
              <a:t>مهارة</a:t>
            </a:r>
            <a:r>
              <a:rPr b="1" lang="ar-SA" sz="4000" spc="-1" strike="noStrike" u="sng">
                <a:solidFill>
                  <a:srgbClr val="0000ff"/>
                </a:solidFill>
                <a:uFillTx/>
                <a:latin typeface="Arial"/>
                <a:ea typeface="Simplified Arabic"/>
              </a:rPr>
              <a:t> </a:t>
            </a:r>
            <a:r>
              <a:rPr b="1" lang="ar-SA" sz="4000" spc="-1" strike="noStrike" u="sng">
                <a:solidFill>
                  <a:srgbClr val="ff0000"/>
                </a:solidFill>
                <a:uFillTx/>
                <a:latin typeface="Arial"/>
                <a:cs typeface="Simplified Arabic"/>
              </a:rPr>
              <a:t>التهيئة الحافز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  <a:cs typeface="Traditional Arabic"/>
              </a:rPr>
              <a:t>يتوقع من المتدرب بعد إتمام المناشط التدريبية  أن يكون قادرا على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1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تحديد المقصود بمفهوم التهيئة الحافزة للطلاب</a:t>
            </a:r>
            <a:r>
              <a:rPr b="1" lang="ar-SA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1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استنتاج الأهداف الرئيسة لعملية التهيئة الحافزة</a:t>
            </a:r>
            <a:r>
              <a:rPr b="1" lang="ar-SA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1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Arial"/>
                <a:cs typeface="Traditional Arabic"/>
              </a:rPr>
              <a:t>استنتاج العلاقة بين هذه المهارة وتحقيق الأهداف التعليمة</a:t>
            </a:r>
            <a:r>
              <a:rPr b="1" lang="ar-SA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تحديد الأساليب المتعددة لاستخدامها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تحديد السلوكيات المكونة لهذه المهارة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تأدية هذه المهارة باستخدام أسلوب تمثيل الأدوار .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1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5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6000"/>
                            </p:stCondLst>
                            <p:childTnLst>
                              <p:par>
                                <p:cTn id="18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9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8000"/>
                            </p:stCondLst>
                            <p:childTnLst>
                              <p:par>
                                <p:cTn id="19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3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7" dur="2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1" dur="2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5" dur="2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6000"/>
                            </p:stCondLst>
                            <p:childTnLst>
                              <p:par>
                                <p:cTn id="20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20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91520" cy="56498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 fontScale="93000"/>
          </a:bodyPr>
          <a:p>
            <a:pPr marL="566640" indent="-566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 u="sng">
                <a:solidFill>
                  <a:srgbClr val="000000"/>
                </a:solidFill>
                <a:uFillTx/>
                <a:latin typeface="Arial"/>
              </a:rPr>
              <a:t>تهيئة الطلاب لموضوع الدرس الجدي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( أ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كل ما يقوله المعلم أو يفعله أو يوجه به الطلاب قبيل بدء تعلم درس جديد بغرض إعداد الطلاب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0000"/>
                </a:solidFill>
                <a:latin typeface="Arial"/>
              </a:rPr>
              <a:t>عقليا </a:t>
            </a:r>
            <a:r>
              <a:rPr b="1" lang="hi-IN" sz="48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1" lang="hi-IN" sz="4800" spc="-1" strike="noStrike">
                <a:solidFill>
                  <a:srgbClr val="ff0000"/>
                </a:solidFill>
                <a:latin typeface="Arial"/>
              </a:rPr>
              <a:t>وجدانيا </a:t>
            </a:r>
            <a:r>
              <a:rPr b="1" lang="hi-IN" sz="48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1" lang="hi-IN" sz="4800" spc="-1" strike="noStrike">
                <a:solidFill>
                  <a:srgbClr val="ff0000"/>
                </a:solidFill>
                <a:latin typeface="Arial"/>
              </a:rPr>
              <a:t>جسمي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ct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لتعلم هذا الدرس وجعلهم في حالة قوامها الاستعداد للتعلم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91520" cy="56498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0000"/>
                </a:solidFill>
                <a:uFillTx/>
                <a:latin typeface="Arial"/>
              </a:rPr>
              <a:t>تهيئة الطلاب لموضوع الدرس الجدي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 algn="r" rtl="1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80"/>
                </a:solidFill>
                <a:latin typeface="Arial"/>
                <a:ea typeface="Simplified Arabic"/>
              </a:rPr>
              <a:t>( ب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 algn="r" rtl="1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80"/>
                </a:solidFill>
                <a:latin typeface="Arial"/>
                <a:cs typeface="Simplified Arabic"/>
              </a:rPr>
              <a:t>مجموعة السلوكيات ( الأداءات ) التي يقوم بها المعلم بدقة وسرعة وبقدرة تمكنه من التكيف مع معطيات المواقف التدريسية في مستهل تعلم الطلاب للدرس الجديد أو أحد عناصره قاصدا وضعهم في حالة استعداد للتعلم </a:t>
            </a:r>
            <a:r>
              <a:rPr b="1" lang="ar-SA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8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4000"/>
                            </p:stCondLst>
                            <p:childTnLst>
                              <p:par>
                                <p:cTn id="26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2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6000"/>
                            </p:stCondLst>
                            <p:childTnLst>
                              <p:par>
                                <p:cTn id="26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6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r" rtl="1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 u="sng">
                <a:solidFill>
                  <a:srgbClr val="ffffff"/>
                </a:solidFill>
                <a:uFillTx/>
                <a:latin typeface="Arial"/>
                <a:cs typeface="Monotype Koufi"/>
              </a:rPr>
              <a:t>أهداف عملية التهيئة الحافزة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Simplified Arabic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  <a:ea typeface="Simplified Arabic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Simplified Arabic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Simplified Arabic"/>
              </a:rPr>
              <a:t>1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Simplified Arabic"/>
              </a:rPr>
              <a:t>-تركيز انتباه الطلاب على موضوع الدرس الجديد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hi-IN" sz="3200" spc="-1" strike="noStrike">
                <a:solidFill>
                  <a:srgbClr val="00ff00"/>
                </a:solidFill>
                <a:latin typeface="Arial"/>
              </a:rPr>
              <a:t>تزويد الطلاب بما هو متوقع منهم أن يتعلموه وما سوف يحققونه من أهداف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- تحفيز ما لدى الطلاب من متطلبات التعلم المسبقة  واستدعاؤها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تزويدهم بإطار عام تنظيمي لما سوف يتضمنه المحتو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من نقاط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8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3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8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3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8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3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8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280" y="274680"/>
            <a:ext cx="7931160" cy="1138320"/>
          </a:xfrm>
          <a:prstGeom prst="rect">
            <a:avLst/>
          </a:prstGeom>
          <a:solidFill>
            <a:srgbClr val="ffff00"/>
          </a:solidFill>
          <a:ln w="7632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hi-IN" sz="4800" spc="-1" strike="noStrike">
                <a:solidFill>
                  <a:srgbClr val="0000ff"/>
                </a:solidFill>
                <a:latin typeface="Arial"/>
                <a:cs typeface="Thaghr 5 Hor."/>
              </a:rPr>
              <a:t>أساليب التهيئة لموضوع الدرس الجديد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  <a:ea typeface="Thaghr 5 Hor.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0000"/>
          </a:soli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r" rtl="1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0000"/>
                </a:solidFill>
                <a:latin typeface="Arial"/>
              </a:rPr>
              <a:t>الأسلوب الأول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: </a:t>
            </a:r>
            <a:r>
              <a:rPr b="1" lang="hi-IN" sz="2400" spc="-1" strike="noStrike">
                <a:solidFill>
                  <a:srgbClr val="ffff00"/>
                </a:solidFill>
                <a:latin typeface="Arial"/>
                <a:cs typeface="PT Bold Heading"/>
              </a:rPr>
              <a:t>طرح الأسئلة التحفيزي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lnSpc>
                <a:spcPct val="150000"/>
              </a:lnSpc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0000"/>
                </a:solidFill>
                <a:latin typeface="Arial"/>
              </a:rPr>
              <a:t>الأسلوب الثاني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: </a:t>
            </a:r>
            <a:r>
              <a:rPr b="0" lang="hi-IN" sz="4400" spc="-1" strike="noStrike">
                <a:solidFill>
                  <a:srgbClr val="ffff00"/>
                </a:solidFill>
                <a:latin typeface="Arial"/>
                <a:cs typeface="Thaghr 5 Hor."/>
              </a:rPr>
              <a:t>الطرائف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0000"/>
                </a:solidFill>
                <a:latin typeface="Arial"/>
              </a:rPr>
              <a:t>الأسلوب الثالث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: </a:t>
            </a:r>
            <a:r>
              <a:rPr b="1" lang="hi-IN" sz="2400" spc="-1" strike="noStrike">
                <a:solidFill>
                  <a:srgbClr val="ffff00"/>
                </a:solidFill>
                <a:latin typeface="Arial"/>
                <a:cs typeface="PT Bold Heading"/>
              </a:rPr>
              <a:t>حكي القصص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lnSpc>
                <a:spcPct val="15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0000"/>
                </a:solidFill>
                <a:latin typeface="Arial"/>
              </a:rPr>
              <a:t>الأسلوب الرابع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: </a:t>
            </a:r>
            <a:r>
              <a:rPr b="1" lang="hi-IN" sz="3200" spc="-1" strike="noStrike">
                <a:solidFill>
                  <a:srgbClr val="ffff00"/>
                </a:solidFill>
                <a:latin typeface="Arial"/>
                <a:cs typeface="Monotype Koufi"/>
              </a:rPr>
              <a:t>عرض الأحداث الجاري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0000"/>
                </a:solidFill>
                <a:latin typeface="Arial"/>
              </a:rPr>
              <a:t>الأسلوب الخامس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: </a:t>
            </a:r>
            <a:r>
              <a:rPr b="1" lang="hi-IN" sz="2400" spc="-1" strike="noStrike">
                <a:solidFill>
                  <a:srgbClr val="ffff00"/>
                </a:solidFill>
                <a:latin typeface="Arial"/>
                <a:cs typeface="PT Bold Heading"/>
              </a:rPr>
              <a:t>ممارسة الطلاب للأنشطة الاستقصائي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2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7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2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7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2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280" y="274680"/>
            <a:ext cx="7931160" cy="1138320"/>
          </a:xfrm>
          <a:prstGeom prst="rect">
            <a:avLst/>
          </a:prstGeom>
          <a:solidFill>
            <a:srgbClr val="ffff00"/>
          </a:solidFill>
          <a:ln w="7632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hi-IN" sz="4000" spc="-1" strike="noStrike">
                <a:solidFill>
                  <a:srgbClr val="0000ff"/>
                </a:solidFill>
                <a:latin typeface="Arial"/>
                <a:cs typeface="Thaghr 5 Hor."/>
              </a:rPr>
              <a:t>أساليب التهيئة لموضوع الدرس الجديد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0000"/>
          </a:soli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57200" indent="0" algn="r" rtl="1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PT Bold Heading"/>
              </a:rPr>
              <a:t>الأسلوب السادس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PT Bold Heading"/>
              </a:rPr>
              <a:t>: </a:t>
            </a:r>
            <a:r>
              <a:rPr b="0" lang="hi-IN" sz="2800" spc="-1" strike="noStrike">
                <a:solidFill>
                  <a:srgbClr val="ffff00"/>
                </a:solidFill>
                <a:latin typeface="Arial"/>
                <a:cs typeface="PT Bold Heading"/>
              </a:rPr>
              <a:t>تقديم بعض الآيات القرآنية أو الأحاديث    النبوية أو الأقوال المأثور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r" rtl="1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PT Bold Heading"/>
              </a:rPr>
              <a:t>الأسلوب السابع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PT Bold Heading"/>
              </a:rPr>
              <a:t> : </a:t>
            </a:r>
            <a:r>
              <a:rPr b="0" lang="hi-IN" sz="2800" spc="-1" strike="noStrike">
                <a:solidFill>
                  <a:srgbClr val="ffff00"/>
                </a:solidFill>
                <a:latin typeface="Arial"/>
                <a:cs typeface="PT Bold Heading"/>
              </a:rPr>
              <a:t>إعلامهم بما هو متوقع منهم أن يتعلموه                   في الدرس أو يحققوه من أهداف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r" rtl="1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PT Bold Heading"/>
              </a:rPr>
              <a:t>الأسلوب الثامن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PT Bold Heading"/>
              </a:rPr>
              <a:t> : </a:t>
            </a:r>
            <a:r>
              <a:rPr b="0" lang="hi-IN" sz="2800" spc="-1" strike="noStrike">
                <a:solidFill>
                  <a:srgbClr val="ffff00"/>
                </a:solidFill>
                <a:latin typeface="Arial"/>
                <a:cs typeface="PT Bold Heading"/>
              </a:rPr>
              <a:t>ربط الدرس السابق بالدرس الحالي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6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1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6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4T00:54:22Z</dcterms:created>
  <dc:creator>محمد الردادي </dc:creator>
  <dc:description/>
  <dc:language>en-US</dc:language>
  <cp:lastModifiedBy>sa</cp:lastModifiedBy>
  <dcterms:modified xsi:type="dcterms:W3CDTF">2007-01-06T22:19:01Z</dcterms:modified>
  <cp:revision>54</cp:revision>
  <dc:subject/>
  <dc:title>الشريحة 1</dc:title>
</cp:coreProperties>
</file>